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hamm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948-0E25-4FB0-B3C2-7FA7BA6F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4CF-BFC3-4E84-84DF-BDAC70FE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9B4-14D8-449C-BF40-91E362ED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21B-5563-4364-BE90-890255F4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3350-3BFE-4095-99F9-D65DB1BA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5A34-06F5-457B-B478-E1E390AA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C41A-B75F-4DB3-8BEB-B0AAEC64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1631-9C2A-4507-BA71-59C8D0BE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1420-D98A-4171-BBDB-2863B2CD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0F23-1AE4-4C60-8C0C-8BE163C9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C87F-AD55-4CF3-9DA0-D61EF4D9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B61-11CD-4249-A585-AD06CC1D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5FA4-603E-469A-8010-3E271CA7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36ED-D40E-47C8-81F8-666A099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F390-1A5E-4E49-924B-C01C5D51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0077-91A2-4A7C-8AF7-B3F5DF3D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D9E0-9D8E-4CD3-8E1B-7F0DED0B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49F-9752-44EE-AAA6-BFBC0F6A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444-4207-4315-A860-7C405AEC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0C4-62FF-41F5-8464-E68FF252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5CA-B44D-4423-B5B8-EA58E6C0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90F-5BC6-479C-AEDE-A13ABE9C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E5D-883C-4B91-910A-3F7C3D62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498-C607-4622-98D7-E542ABF6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0652-6F74-407F-A190-07D499C121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AE27-E6FE-4077-93F5-366B67AA0F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file:///tmp/home/.config/libreoffice/4/user/gallery/hammer.wav" TargetMode="External"/><Relationship Id="rId3" Type="http://schemas.microsoft.com/office/2007/relationships/media" Target="file:///tmp/home/.config/libreoffice/4/user/gallery/hammer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3024360"/>
          </a:xfrm>
          <a:prstGeom prst="rect">
            <a:avLst/>
          </a:prstGeom>
          <a:solidFill>
            <a:srgbClr val="ffffff">
              <a:alpha val="50000"/>
            </a:srgbClr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Самый умный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84360" y="260280"/>
            <a:ext cx="6400800" cy="1271520"/>
          </a:xfrm>
          <a:prstGeom prst="rect">
            <a:avLst/>
          </a:prstGeom>
          <a:noFill/>
          <a:ln w="7632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 по физике и хи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14400" cy="152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0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36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24000" y="1483920"/>
            <a:ext cx="66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Не прилипнут. Когда вы окунете мамин паспорт в масло, он станет жирным, а вода отказывается смачивать жирные поверхн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5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84360" y="1557360"/>
            <a:ext cx="597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ветреный день нам становится теплее, если мы прячемся от ветра. А одинаковы ли показания термометра на ветру и “за углом”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14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11280" y="1557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40000" y="285264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Термометр не чувствителен к ветру, поэтому его показания одинако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6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16608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гут ли туристы сварить яйцо вкрутую, находясь высоко в гор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43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При подъеме в гору атмосферное давление уменьшается, соответственно уменьшается и температура кипения, поэтому сварить яйцо в крутую нельз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7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104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лобный Джин, находясь в газообразном состоянии внутри закрытой бутылки, оказывает сильное давление на её стенки, дно и пробку. Чем давит Дж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143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40000" y="256536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Беспорядочно движущимися молекул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8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02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ерлок Холмс, войдя в квартиру и начав беседу с ее обитателями, через минуту сказал: "Уважаемая хозяйка, у Вас на кухне кипит чайник". Как он определил это, если находился в комнате, из которой кухня не вид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14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40000" y="126792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гда чайник кипит, то крышка обычно побрякивает, т.к. в чайнике, благодаря образовавшемуся пару, давление повышается, приподнимая крышку; при этом часть пара выходит, давление уменьшается, крышка опускается, издавая при ударе звук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9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вушка Маша, собираясь на танцы, совершенно бесшумно вылила на себя полфлакона маминых французских духов. Какое физическое явление позволило маме, готовившей обед на кухне, догадаться о случившем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143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11280" y="2707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c0039"/>
                </a:solidFill>
                <a:latin typeface="Arial"/>
              </a:rPr>
              <a:t>ПЕРВЫЙ ТУР</a:t>
            </a:r>
            <a:br>
              <a:rPr sz="5400"/>
            </a:br>
            <a:br>
              <a:rPr sz="5400"/>
            </a:br>
            <a:r>
              <a:rPr b="0" i="1" lang="en-US" sz="5400" spc="-1" strike="noStrike">
                <a:solidFill>
                  <a:srgbClr val="8c0039"/>
                </a:solidFill>
                <a:latin typeface="Comic Sans MS"/>
              </a:rPr>
              <a:t>«ЗАМОРОЧКИ </a:t>
            </a:r>
            <a:br>
              <a:rPr sz="5400"/>
            </a:br>
            <a:r>
              <a:rPr b="0" i="1" lang="en-US" sz="5400" spc="-1" strike="noStrike">
                <a:solidFill>
                  <a:srgbClr val="8c0039"/>
                </a:solidFill>
                <a:latin typeface="Comic Sans MS"/>
              </a:rPr>
              <a:t>ИЗ БОЧКИ»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740720" y="479736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63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11280" y="3068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иффуз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10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95008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кислота всегда находится в желудке здорового человека, а при недостатке её употребляют как лекарств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14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1280" y="3068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оляная кислота НС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c0039"/>
                </a:solidFill>
                <a:latin typeface="Arial"/>
              </a:rPr>
              <a:t>ВОПРОС </a:t>
            </a: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11</a:t>
            </a:r>
            <a:r>
              <a:rPr b="0" lang="ru-RU" sz="4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вание какого химического элемента здесь зашифровано: ерсробе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14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11280" y="3068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12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гадайте загад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роизводстве я люб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олько ни было б там фракц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 расходуюсь при т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коряю ход реакци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43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11280" y="3068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13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й химический элемент сначала был открыт на Солнце, а потом на Земл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14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11280" y="3068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л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14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й химический элемент, если прибавить к его названию впереди одну букву, превратится в полупроводни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1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жин, то вылезая из бутылки, то влезая обратно, всё время меняет свою форму и объём. В каком состоянии находится Джин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80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11280" y="3068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од – ди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йчас этот элемент широко распространён, но в 1855 г. на Всемирной выставке его демонстрировали как материал для ювелирных украшений, который ценился дороже золота. Что это за метал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4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11280" y="3068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юм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16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новидности атомов одного и того же элемента, имеющие разное число нейтрон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143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11280" y="3068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зото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17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вушка Маша, собираясь на Хэллоуин, решила сделать себе причёску. Она долго перед зеркалом расчёсывала свои волосы пластмассовой расчёской. В результате, на конкурс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ь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а заняла первое место. Почему? Какое физическое явление произошло с её волос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143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11280" y="3068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лектр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18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V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е король Генри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здал закон: «Никому, кто бы ни был, не разрешается превращать простые металлы в золото». Как возможно нарушение этого закона в нашем ве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143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11280" y="1484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 развитием атомной физики стало возможным проводить ядерные реакции и превращения элементов. Таким путём, например, из ртути можно получить золото. Иное дело, что себестоимость такого золота будет намного больше, чем добытого обычным поисковым мет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19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, что сейчас называют молекулами, М.В. Ломоносов называл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143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40000" y="1341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84360" y="299700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В газообразн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11280" y="3068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рпускул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20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 кристаллической решётки у саха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143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11280" y="3068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олекуля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11280" y="1988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Первый конкурс закончен.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56000" y="3644640"/>
            <a:ext cx="6310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Жюри подводит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итог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2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мешает студенту колледжа, пойманному Александром Борисовичем на месте курения, распасться на отдельные молекулы и врассыпную исчезнуть из вид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172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4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1280" y="1557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11280" y="3213000"/>
            <a:ext cx="64008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Взаимное притяжение между молекул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3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09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 каких студентах быстрее движутся молекулы: в здоровых или простуженных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172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14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1280" y="1557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1280" y="321300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 простуженных, так как температура тела вы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ВОПРОС 4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илипнут ли друг к другу мамин и папин паспорта, если папин паспорт смочить водой, а мамин паспорт окунуть в подсолнечное масло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4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7:34:38Z</dcterms:created>
  <dc:creator>Roman</dc:creator>
  <dc:description/>
  <dc:language>en-US</dc:language>
  <cp:lastModifiedBy>Olesya</cp:lastModifiedBy>
  <dcterms:modified xsi:type="dcterms:W3CDTF">2007-11-08T17:34:38Z</dcterms:modified>
  <cp:revision>12</cp:revision>
  <dc:subject/>
  <dc:title>«Самый умный»</dc:title>
</cp:coreProperties>
</file>